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93D-B869-43F3-AB2D-C63A384C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DDE-8753-4259-81F9-AC1735FE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34A-E384-4862-B3D3-1274F16E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9F9-3A09-4E6A-AD97-EA0E7926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E3A3-ABAA-4E03-B805-41BC3DDE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DDB9-BAC7-4C0A-ABC5-9F538921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754A-55B4-4F46-BF80-0183164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7397-7338-4A3F-AEA7-6A0F693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C89E-1335-45D9-B0A3-FD45D64A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DDAA-B074-4AA2-A49B-9C2606DD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3355-60D1-4C9C-A028-716444E5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DB7-596A-4964-A199-953F86AC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B894-31C9-4270-A44C-367A6218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C35E-DBF3-40BD-B82B-2C6AE3B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64CF-361B-4B02-9934-F89B2272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FF4C-B2DA-47FC-ABF8-04FC4107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90C6-3B86-44E0-A26C-32550FAB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E6D-8D6A-40CA-8131-2B898B12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FBF-DEA8-4A88-A325-FE743D5B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DB6-A63C-427F-8946-7BE3B591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CA2-45F2-4B43-9FFE-F467AFE7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4A3-F493-40CA-BB5B-8AE4D53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A4F-CA21-43CB-8405-4B5FE88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097-8BE4-4A00-8CB3-B49CC78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CF89-AC70-4815-B4D2-36F36A1568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2B7C-1A66-41E4-8DE9-ED57CAF026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4009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Презентация  на тем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Вся   душа   России   в   народных  песнях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а  Земцова  Валентина Николаевна,  преподаватель  МОУ  Д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 Детская школа  искусств» пгт.Свеча  Кировской обла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21  го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ляда,   свят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8" descr="post-221-1269175836"/>
          <p:cNvPicPr/>
          <p:nvPr/>
        </p:nvPicPr>
        <p:blipFill>
          <a:blip r:embed="rId1"/>
          <a:stretch/>
        </p:blipFill>
        <p:spPr>
          <a:xfrm>
            <a:off x="214200" y="1857240"/>
            <a:ext cx="4357800" cy="471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68003"/>
          <p:cNvPicPr/>
          <p:nvPr/>
        </p:nvPicPr>
        <p:blipFill>
          <a:blip r:embed="rId2"/>
          <a:stretch/>
        </p:blipFill>
        <p:spPr>
          <a:xfrm>
            <a:off x="4786200" y="1571760"/>
            <a:ext cx="421488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Рисунок2"/>
          <p:cNvPicPr/>
          <p:nvPr/>
        </p:nvPicPr>
        <p:blipFill>
          <a:blip r:embed="rId1"/>
          <a:stretch/>
        </p:blipFill>
        <p:spPr>
          <a:xfrm>
            <a:off x="108000" y="189000"/>
            <a:ext cx="4680000" cy="6480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2"/>
          <p:cNvSpPr/>
          <p:nvPr/>
        </p:nvSpPr>
        <p:spPr>
          <a:xfrm>
            <a:off x="5214960" y="2858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есенки-коляд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4929120" y="1571760"/>
            <a:ext cx="4071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оляда, коляд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одавай пирог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лин да лепеш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 заднее окошк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е дашь пирога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ы корову за ро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е дашь блинка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ы хозяина в пин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слениц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Picture 8" descr="boris-kustodiev-maslanitsa-1919"/>
          <p:cNvPicPr/>
          <p:nvPr/>
        </p:nvPicPr>
        <p:blipFill>
          <a:blip r:embed="rId1"/>
          <a:stretch/>
        </p:blipFill>
        <p:spPr>
          <a:xfrm>
            <a:off x="500040" y="1571760"/>
            <a:ext cx="8286840" cy="464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-360" y="3214800"/>
            <a:ext cx="89298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н – встреча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Вт – заигрыш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р – лакомк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Чт – широкий четвер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т – тёщины вечерки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б – золовкины посидел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с – прощёное воскресенье(проводы маслениц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Рисунок 4" descr="1231157916_image010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4675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0715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6" descr="5.jpg"/>
          <p:cNvPicPr/>
          <p:nvPr/>
        </p:nvPicPr>
        <p:blipFill>
          <a:blip r:embed="rId1"/>
          <a:stretch/>
        </p:blipFill>
        <p:spPr>
          <a:xfrm>
            <a:off x="3143160" y="2286000"/>
            <a:ext cx="600084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0" y="285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Ж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ЧЕЛА  МАСЛЕН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0" y="1000080"/>
            <a:ext cx="342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ышные гуля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рмарка венчае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свидань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лениц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приходи опять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год Красавиц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ова повстречае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ова буде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празднова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инами угощать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:\Новая папка\Старинные свадьбы\h_hol.jpg"/>
          <p:cNvPicPr/>
          <p:nvPr/>
        </p:nvPicPr>
        <p:blipFill>
          <a:blip r:embed="rId1"/>
          <a:stretch/>
        </p:blipFill>
        <p:spPr>
          <a:xfrm>
            <a:off x="285840" y="1571760"/>
            <a:ext cx="8643960" cy="5286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вадебные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ирические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Picture 2" descr="C:\Documents and Settings\User\Рабочий стол\398827af96592d332323039b045d24e9.jpg"/>
          <p:cNvPicPr/>
          <p:nvPr/>
        </p:nvPicPr>
        <p:blipFill>
          <a:blip r:embed="rId1"/>
          <a:stretch/>
        </p:blipFill>
        <p:spPr>
          <a:xfrm>
            <a:off x="523800" y="1285920"/>
            <a:ext cx="80964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Ямщицкие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4" descr="C:\Users\Пользователь\Desktop\ямщик.jpg"/>
          <p:cNvPicPr/>
          <p:nvPr/>
        </p:nvPicPr>
        <p:blipFill>
          <a:blip r:embed="rId1"/>
          <a:stretch/>
        </p:blipFill>
        <p:spPr>
          <a:xfrm>
            <a:off x="642960" y="1428840"/>
            <a:ext cx="7786800" cy="50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25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ылинные и исторические   песни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4" descr="C:\Users\Пользователь\Desktop\Садко1.jpg"/>
          <p:cNvPicPr/>
          <p:nvPr/>
        </p:nvPicPr>
        <p:blipFill>
          <a:blip r:embed="rId1"/>
          <a:stretch/>
        </p:blipFill>
        <p:spPr>
          <a:xfrm>
            <a:off x="4643280" y="285840"/>
            <a:ext cx="428652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Users\Пользователь\Desktop\былина 1.jpg"/>
          <p:cNvPicPr/>
          <p:nvPr/>
        </p:nvPicPr>
        <p:blipFill>
          <a:blip r:embed="rId2"/>
          <a:stretch/>
        </p:blipFill>
        <p:spPr>
          <a:xfrm>
            <a:off x="214200" y="2786040"/>
            <a:ext cx="4500720" cy="385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омпозиторы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5" descr="C:\Users\Пользователь\Desktop\Лядов.jpg"/>
          <p:cNvPicPr/>
          <p:nvPr/>
        </p:nvPicPr>
        <p:blipFill>
          <a:blip r:embed="rId1"/>
          <a:stretch/>
        </p:blipFill>
        <p:spPr>
          <a:xfrm rot="20869200">
            <a:off x="250920" y="218880"/>
            <a:ext cx="2357280" cy="2631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Пользователь\Desktop\Балакирев.jpg"/>
          <p:cNvPicPr/>
          <p:nvPr/>
        </p:nvPicPr>
        <p:blipFill>
          <a:blip r:embed="rId2"/>
          <a:stretch/>
        </p:blipFill>
        <p:spPr>
          <a:xfrm rot="294000">
            <a:off x="6190920" y="97920"/>
            <a:ext cx="2432160" cy="2900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0a91b76f7552fb2d995ad7c7ea2"/>
          <p:cNvPicPr/>
          <p:nvPr/>
        </p:nvPicPr>
        <p:blipFill>
          <a:blip r:embed="rId3"/>
          <a:stretch/>
        </p:blipFill>
        <p:spPr>
          <a:xfrm rot="21351000">
            <a:off x="2822400" y="509400"/>
            <a:ext cx="2357640" cy="3071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48635118"/>
          <p:cNvPicPr/>
          <p:nvPr/>
        </p:nvPicPr>
        <p:blipFill>
          <a:blip r:embed="rId4">
            <a:lum contrast="12000"/>
          </a:blip>
          <a:stretch/>
        </p:blipFill>
        <p:spPr>
          <a:xfrm rot="21055800">
            <a:off x="241200" y="2962080"/>
            <a:ext cx="2500560" cy="325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tchaikovsky"/>
          <p:cNvPicPr/>
          <p:nvPr/>
        </p:nvPicPr>
        <p:blipFill>
          <a:blip r:embed="rId5"/>
          <a:stretch/>
        </p:blipFill>
        <p:spPr>
          <a:xfrm rot="358800">
            <a:off x="6426360" y="3125520"/>
            <a:ext cx="2571480" cy="2940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Прямоугольник 7"/>
          <p:cNvSpPr/>
          <p:nvPr/>
        </p:nvSpPr>
        <p:spPr>
          <a:xfrm>
            <a:off x="1143000" y="62737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.К. Лядов, М.П. Мусоргский,М.А. Балакирев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.П. Бородин, М.И. Глинка, П.И. Чайков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C:\Documents and Settings\User\Рабочий стол\0003-003-.jpg"/>
          <p:cNvPicPr/>
          <p:nvPr/>
        </p:nvPicPr>
        <p:blipFill>
          <a:blip r:embed="rId6"/>
          <a:stretch/>
        </p:blipFill>
        <p:spPr>
          <a:xfrm rot="419400">
            <a:off x="3884760" y="3203280"/>
            <a:ext cx="233820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73800117_63322582_1283025053_3002541_large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357120" y="928800"/>
            <a:ext cx="85010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dda30"/>
                </a:solidFill>
                <a:latin typeface="Times New Roman"/>
              </a:rPr>
              <a:t>Спасибо   за  внимание!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родные певцы, сказител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8" descr="42307371_SCHrilyov_Mihail_Nikolaevich"/>
          <p:cNvPicPr/>
          <p:nvPr/>
        </p:nvPicPr>
        <p:blipFill>
          <a:blip r:embed="rId1"/>
          <a:stretch/>
        </p:blipFill>
        <p:spPr>
          <a:xfrm>
            <a:off x="5715000" y="1143000"/>
            <a:ext cx="3254400" cy="434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3dddf5238dab"/>
          <p:cNvPicPr/>
          <p:nvPr/>
        </p:nvPicPr>
        <p:blipFill>
          <a:blip r:embed="rId2"/>
          <a:stretch/>
        </p:blipFill>
        <p:spPr>
          <a:xfrm>
            <a:off x="142920" y="2643120"/>
            <a:ext cx="542916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лыбельные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C:\Users\Пользователь\Desktop\колыбель.jpg"/>
          <p:cNvPicPr/>
          <p:nvPr/>
        </p:nvPicPr>
        <p:blipFill>
          <a:blip r:embed="rId1"/>
          <a:stretch/>
        </p:blipFill>
        <p:spPr>
          <a:xfrm>
            <a:off x="642960" y="1285920"/>
            <a:ext cx="792972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3714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баутки,  детские   игровые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5" descr="C:\Users\Пользователь\Desktop\игровые детские.jpg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516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Documents and Settings\User\Рабочий стол\QK2lZVZlKWA (1).jpg"/>
          <p:cNvPicPr/>
          <p:nvPr/>
        </p:nvPicPr>
        <p:blipFill>
          <a:blip r:embed="rId2"/>
          <a:stretch/>
        </p:blipFill>
        <p:spPr>
          <a:xfrm>
            <a:off x="0" y="3357720"/>
            <a:ext cx="5294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ясовые  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2" descr="C:\Documents and Settings\User\Рабочий стол\CS 2432.jpg"/>
          <p:cNvPicPr/>
          <p:nvPr/>
        </p:nvPicPr>
        <p:blipFill>
          <a:blip r:embed="rId1"/>
          <a:stretch/>
        </p:blipFill>
        <p:spPr>
          <a:xfrm>
            <a:off x="225360" y="1393920"/>
            <a:ext cx="870444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42148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ороводные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3" descr="C:\Documents and Settings\User\Рабочий стол\p-8bMxTnAVI.jpg"/>
          <p:cNvPicPr/>
          <p:nvPr/>
        </p:nvPicPr>
        <p:blipFill>
          <a:blip r:embed="rId1"/>
          <a:stretch/>
        </p:blipFill>
        <p:spPr>
          <a:xfrm>
            <a:off x="4000680" y="285840"/>
            <a:ext cx="5143320" cy="442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Рабочий стол\content_horovody1_1__econet_ru.jpg"/>
          <p:cNvPicPr/>
          <p:nvPr/>
        </p:nvPicPr>
        <p:blipFill>
          <a:blip r:embed="rId2"/>
          <a:stretch/>
        </p:blipFill>
        <p:spPr>
          <a:xfrm>
            <a:off x="0" y="2571840"/>
            <a:ext cx="5000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овые 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C:\Users\Пользователь\Desktop\игров.взр.2.jpg"/>
          <p:cNvPicPr/>
          <p:nvPr/>
        </p:nvPicPr>
        <p:blipFill>
          <a:blip r:embed="rId1"/>
          <a:stretch/>
        </p:blipFill>
        <p:spPr>
          <a:xfrm>
            <a:off x="571680" y="1214280"/>
            <a:ext cx="7858080" cy="542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ртина  И. Репина 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 Бурлаки  на  Волг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4" descr="C:\Users\Пользователь\Desktop\бурлаки.jpg"/>
          <p:cNvPicPr/>
          <p:nvPr/>
        </p:nvPicPr>
        <p:blipFill>
          <a:blip r:embed="rId1"/>
          <a:stretch/>
        </p:blipFill>
        <p:spPr>
          <a:xfrm>
            <a:off x="571680" y="1785960"/>
            <a:ext cx="80722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8:40:59Z</dcterms:created>
  <dc:creator>User</dc:creator>
  <dc:description/>
  <dc:language>en-US</dc:language>
  <cp:lastModifiedBy>Пользователь</cp:lastModifiedBy>
  <dcterms:modified xsi:type="dcterms:W3CDTF">2021-11-16T07:44:39Z</dcterms:modified>
  <cp:revision>53</cp:revision>
  <dc:subject/>
  <dc:title>Народные песни</dc:title>
</cp:coreProperties>
</file>